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8.wmf" ContentType="image/x-wmf"/>
  <Override PartName="/ppt/media/image13.png" ContentType="image/png"/>
  <Override PartName="/ppt/media/image33.wmf" ContentType="image/x-wmf"/>
  <Override PartName="/ppt/media/image14.png" ContentType="image/png"/>
  <Override PartName="/ppt/media/image9.wmf" ContentType="image/x-wmf"/>
  <Override PartName="/ppt/media/image7.wmf" ContentType="image/x-wmf"/>
  <Override PartName="/ppt/media/image32.wmf" ContentType="image/x-wmf"/>
  <Override PartName="/ppt/media/image12.png" ContentType="image/png"/>
  <Override PartName="/ppt/media/image25.png" ContentType="image/png"/>
  <Override PartName="/ppt/media/image2.png" ContentType="image/png"/>
  <Override PartName="/ppt/media/image10.wmf" ContentType="image/x-wmf"/>
  <Override PartName="/ppt/media/image31.wmf" ContentType="image/x-wmf"/>
  <Override PartName="/ppt/media/image6.wmf" ContentType="image/x-wmf"/>
  <Override PartName="/ppt/media/image29.wmf" ContentType="image/x-wmf"/>
  <Override PartName="/ppt/media/image35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6BAA-983B-4091-BCBC-641D411D0DE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014D-C0FB-44E0-9822-D1BC75483CF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0AF6-11BC-47A9-AB34-16174D32641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BE7E-D90F-4C61-943B-D7DFF6972F1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21DA-74A3-4B73-9018-19CF7B3F1D2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D6A4-AFD2-4D0A-9A39-04C411A8130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E2FF-9822-4A81-A8F7-70F31086019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CA7D-1A6E-450C-B8B8-742D10C3B15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70DC-252E-4798-8037-4AA239AC497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647B-B9EA-45DA-BCFC-B4AC888C88B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EF9A-C27B-4A06-989E-8D7AF4D8422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F9A5-F8AD-4CD4-A9C8-CB6F60870E9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9978-B4F4-4CA9-9575-78DFBE6A179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44CA-F9D0-425A-821D-B2E2FB1AC20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7323-F6AD-4F31-A020-E4CDB576A1F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EDD8-473E-4499-BA52-1E25B7F4C5F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69DB-D422-4896-978C-F6E5D6D2499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1B5-E259-4E8D-BF26-216F2A66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672-BACE-46D3-B9BF-A2A5B172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B38-2796-4D8E-8DE3-888E16F2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7384-D792-43CC-8668-DF477912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227-B6C7-4DB5-94C8-608D2034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D56F-A389-460A-9687-880C7586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A9B-FAE5-4342-820E-28341A3F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7C1A-1FC2-4B54-9B48-0BD24BB6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CB5-9122-4F76-A237-A259DA47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552-257A-45B1-8DD1-73FDD4A7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90A-5F79-4B69-9401-C23C0EB8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711A-0A4A-4B9F-90E3-CB51E1C3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26A0-81A9-4793-8F4E-FB35B9534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2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3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4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5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12"/>
          <p:cNvGraphicFramePr/>
          <p:nvPr/>
        </p:nvGraphicFramePr>
        <p:xfrm>
          <a:off x="3995640" y="1700280"/>
          <a:ext cx="424836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700280"/>
                    <a:ext cx="424836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5"/>
          <p:cNvSpPr/>
          <p:nvPr/>
        </p:nvSpPr>
        <p:spPr>
          <a:xfrm>
            <a:off x="539640" y="1413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tela određen je sa tri nekolinearne tač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84360" y="2060640"/>
            <a:ext cx="280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,y,z- nepokretan koordinatni sistem u odnosu na okolni prostor (prostorni koordinatni sist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4360" y="4076640"/>
            <a:ext cx="280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kretan koord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-nepokretan u odnosu na t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84360" y="522936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- referentna tačka te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2484360" y="4773600"/>
          <a:ext cx="2879640" cy="20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4773600"/>
                    <a:ext cx="28796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4" name="Object 7"/>
          <p:cNvGraphicFramePr/>
          <p:nvPr/>
        </p:nvGraphicFramePr>
        <p:xfrm>
          <a:off x="785880" y="5713560"/>
          <a:ext cx="1942920" cy="33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5713560"/>
                    <a:ext cx="194292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4"/>
          <p:cNvGraphicFramePr/>
          <p:nvPr/>
        </p:nvGraphicFramePr>
        <p:xfrm>
          <a:off x="755640" y="1670040"/>
          <a:ext cx="4753080" cy="30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670040"/>
                    <a:ext cx="475308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6"/>
          <p:cNvSpPr/>
          <p:nvPr/>
        </p:nvSpPr>
        <p:spPr>
          <a:xfrm>
            <a:off x="611280" y="51577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a jednačina kretanja tela u ovom slučaju gla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4500720" y="1197000"/>
          <a:ext cx="3744720" cy="30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1197000"/>
                    <a:ext cx="37447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826920" y="1773360"/>
                <a:ext cx="583272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</m:e>
                          </m:mr>
                          <m:mr>
                            <m:e>
                              <m:r>
                                <m:t xml:space="preserve">η</m:t>
                              </m:r>
                            </m:e>
                          </m:mr>
                          <m:mr>
                            <m:e>
                              <m:r>
                                <m:t xml:space="preserve">ζ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4932360" y="1484280"/>
                <a:ext cx="863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27" name="Object 7"/>
          <p:cNvGraphicFramePr/>
          <p:nvPr/>
        </p:nvGraphicFramePr>
        <p:xfrm>
          <a:off x="1212840" y="1989000"/>
          <a:ext cx="254016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989000"/>
                    <a:ext cx="254016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6"/>
          <p:cNvSpPr/>
          <p:nvPr/>
        </p:nvSpPr>
        <p:spPr>
          <a:xfrm>
            <a:off x="61128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daje vezu između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63640" y="314172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raštaj vektora položaja proizvoljne tačke tela zarotiranog za uga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0"/>
          <p:cNvGraphicFramePr/>
          <p:nvPr/>
        </p:nvGraphicFramePr>
        <p:xfrm>
          <a:off x="4859280" y="1844640"/>
          <a:ext cx="391788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844640"/>
                    <a:ext cx="39178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35" name="Object 5"/>
          <p:cNvGraphicFramePr/>
          <p:nvPr/>
        </p:nvGraphicFramePr>
        <p:xfrm>
          <a:off x="743040" y="1484280"/>
          <a:ext cx="664848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484280"/>
                    <a:ext cx="664848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5651640" y="1341360"/>
          <a:ext cx="2788920" cy="40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1341360"/>
                    <a:ext cx="278892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4"/>
          <p:cNvGraphicFramePr/>
          <p:nvPr/>
        </p:nvGraphicFramePr>
        <p:xfrm>
          <a:off x="826920" y="4438800"/>
          <a:ext cx="151164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438800"/>
                    <a:ext cx="1511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5"/>
          <p:cNvSpPr/>
          <p:nvPr/>
        </p:nvSpPr>
        <p:spPr>
          <a:xfrm>
            <a:off x="399564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6"/>
          <p:cNvGraphicFramePr/>
          <p:nvPr/>
        </p:nvGraphicFramePr>
        <p:xfrm>
          <a:off x="789120" y="1628640"/>
          <a:ext cx="4830480" cy="28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9120" y="1628640"/>
                    <a:ext cx="483048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8"/>
          <p:cNvSpPr/>
          <p:nvPr/>
        </p:nvSpPr>
        <p:spPr>
          <a:xfrm>
            <a:off x="2340000" y="4653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rzor konačne ro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9" name="Object 4"/>
          <p:cNvGraphicFramePr/>
          <p:nvPr/>
        </p:nvGraphicFramePr>
        <p:xfrm>
          <a:off x="820800" y="1916280"/>
          <a:ext cx="6783480" cy="32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1916280"/>
                    <a:ext cx="6783480" cy="32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5"/>
          <p:cNvSpPr/>
          <p:nvPr/>
        </p:nvSpPr>
        <p:spPr>
          <a:xfrm>
            <a:off x="468360" y="126828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važi za konačne rotacije. U slučaju male rot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411280" y="4724280"/>
            <a:ext cx="41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beskonačna male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5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7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spit iz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0" y="1528200"/>
            <a:ext cx="157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ZADATAK: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(1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"/>
          <p:cNvGrpSpPr/>
          <p:nvPr/>
        </p:nvGrpSpPr>
        <p:grpSpPr>
          <a:xfrm>
            <a:off x="5643720" y="1357200"/>
            <a:ext cx="3120840" cy="1940040"/>
            <a:chOff x="5643720" y="1357200"/>
            <a:chExt cx="3120840" cy="1940040"/>
          </a:xfrm>
        </p:grpSpPr>
        <p:sp>
          <p:nvSpPr>
            <p:cNvPr id="163" name="AutoShape 11"/>
            <p:cNvSpPr/>
            <p:nvPr/>
          </p:nvSpPr>
          <p:spPr>
            <a:xfrm>
              <a:off x="5643720" y="135720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6131520" y="2407320"/>
              <a:ext cx="43056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7686000" y="2268000"/>
              <a:ext cx="4305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</a:t>
              </a:r>
              <a:r>
                <a:rPr b="0" lang="sr-Latn-CS" sz="1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5761800" y="2923920"/>
              <a:ext cx="273600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6192360" y="269496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6554520" y="247788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V="1">
              <a:off x="7133760" y="2180520"/>
              <a:ext cx="7923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0" name="Object 4"/>
            <p:cNvGraphicFramePr/>
            <p:nvPr/>
          </p:nvGraphicFramePr>
          <p:xfrm>
            <a:off x="7655760" y="1776600"/>
            <a:ext cx="298440" cy="366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1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55760" y="1776600"/>
                      <a:ext cx="29844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3"/>
            <p:cNvSpPr/>
            <p:nvPr/>
          </p:nvSpPr>
          <p:spPr>
            <a:xfrm>
              <a:off x="7156440" y="2580120"/>
              <a:ext cx="906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"/>
            <p:cNvSpPr/>
            <p:nvPr/>
          </p:nvSpPr>
          <p:spPr>
            <a:xfrm>
              <a:off x="5761800" y="2624760"/>
              <a:ext cx="399960" cy="28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16"/>
          <p:cNvSpPr/>
          <p:nvPr/>
        </p:nvSpPr>
        <p:spPr>
          <a:xfrm>
            <a:off x="12240" y="486000"/>
            <a:ext cx="51840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la mas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2.5 kg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5 kg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nalaze se na horizontalnoj podloz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o što je prikazano na slici. Na gornje telo deluje s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 = 10N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od uglom od 30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Odrediti ubrzanja tela, ako je koeficijent tren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eđu tela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2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između tela i podleg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05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a proračun koristit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=10 m/sec</a:t>
            </a:r>
            <a:r>
              <a:rPr b="0" i="1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6"/>
          <p:cNvGrpSpPr/>
          <p:nvPr/>
        </p:nvGrpSpPr>
        <p:grpSpPr>
          <a:xfrm>
            <a:off x="285840" y="3214800"/>
            <a:ext cx="3120840" cy="1938240"/>
            <a:chOff x="285840" y="3214800"/>
            <a:chExt cx="3120840" cy="1938240"/>
          </a:xfrm>
        </p:grpSpPr>
        <p:sp>
          <p:nvSpPr>
            <p:cNvPr id="176" name="AutoShape 67"/>
            <p:cNvSpPr/>
            <p:nvPr/>
          </p:nvSpPr>
          <p:spPr>
            <a:xfrm>
              <a:off x="285840" y="3214800"/>
              <a:ext cx="312084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9"/>
            <p:cNvSpPr/>
            <p:nvPr/>
          </p:nvSpPr>
          <p:spPr>
            <a:xfrm>
              <a:off x="1673280" y="3922920"/>
              <a:ext cx="541080" cy="3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5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0"/>
            <p:cNvSpPr/>
            <p:nvPr/>
          </p:nvSpPr>
          <p:spPr>
            <a:xfrm>
              <a:off x="396000" y="4779720"/>
              <a:ext cx="2561400" cy="144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799560" y="4551480"/>
              <a:ext cx="1641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137960" y="4334400"/>
              <a:ext cx="112428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3"/>
            <p:cNvSpPr/>
            <p:nvPr/>
          </p:nvSpPr>
          <p:spPr>
            <a:xfrm flipH="1" flipV="1">
              <a:off x="1672920" y="3999240"/>
              <a:ext cx="684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4"/>
            <p:cNvSpPr/>
            <p:nvPr/>
          </p:nvSpPr>
          <p:spPr>
            <a:xfrm>
              <a:off x="1691280" y="443664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1284120" y="459288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76"/>
            <p:cNvSpPr/>
            <p:nvPr/>
          </p:nvSpPr>
          <p:spPr>
            <a:xfrm flipH="1">
              <a:off x="1227600" y="4604760"/>
              <a:ext cx="494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>
              <a:off x="1676520" y="44334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78"/>
            <p:cNvSpPr/>
            <p:nvPr/>
          </p:nvSpPr>
          <p:spPr>
            <a:xfrm>
              <a:off x="628560" y="3950280"/>
              <a:ext cx="514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25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9"/>
            <p:cNvSpPr/>
            <p:nvPr/>
          </p:nvSpPr>
          <p:spPr>
            <a:xfrm flipH="1" flipV="1">
              <a:off x="1036440" y="4166640"/>
              <a:ext cx="64008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80"/>
          <p:cNvGraphicFramePr/>
          <p:nvPr/>
        </p:nvGraphicFramePr>
        <p:xfrm>
          <a:off x="2500200" y="4286160"/>
          <a:ext cx="561960" cy="4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8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0200" y="4286160"/>
                    <a:ext cx="561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82"/>
          <p:cNvGraphicFramePr/>
          <p:nvPr/>
        </p:nvGraphicFramePr>
        <p:xfrm>
          <a:off x="642960" y="5143680"/>
          <a:ext cx="1638360" cy="25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Object 8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5143680"/>
                    <a:ext cx="16383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Group 84"/>
          <p:cNvGrpSpPr/>
          <p:nvPr/>
        </p:nvGrpSpPr>
        <p:grpSpPr>
          <a:xfrm>
            <a:off x="4500720" y="3143160"/>
            <a:ext cx="3120840" cy="1940040"/>
            <a:chOff x="4500720" y="3143160"/>
            <a:chExt cx="3120840" cy="1940040"/>
          </a:xfrm>
        </p:grpSpPr>
        <p:sp>
          <p:nvSpPr>
            <p:cNvPr id="195" name="AutoShape 85"/>
            <p:cNvSpPr/>
            <p:nvPr/>
          </p:nvSpPr>
          <p:spPr>
            <a:xfrm>
              <a:off x="4500720" y="314316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86"/>
            <p:cNvSpPr/>
            <p:nvPr/>
          </p:nvSpPr>
          <p:spPr>
            <a:xfrm>
              <a:off x="6775560" y="4420080"/>
              <a:ext cx="45720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87"/>
            <p:cNvSpPr/>
            <p:nvPr/>
          </p:nvSpPr>
          <p:spPr>
            <a:xfrm>
              <a:off x="6059160" y="3962520"/>
              <a:ext cx="46476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70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8"/>
            <p:cNvSpPr/>
            <p:nvPr/>
          </p:nvSpPr>
          <p:spPr>
            <a:xfrm>
              <a:off x="4618800" y="4709880"/>
              <a:ext cx="2736000" cy="144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9"/>
            <p:cNvSpPr/>
            <p:nvPr/>
          </p:nvSpPr>
          <p:spPr>
            <a:xfrm>
              <a:off x="5049360" y="448092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90"/>
            <p:cNvSpPr/>
            <p:nvPr/>
          </p:nvSpPr>
          <p:spPr>
            <a:xfrm>
              <a:off x="5411520" y="426384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91"/>
            <p:cNvSpPr/>
            <p:nvPr/>
          </p:nvSpPr>
          <p:spPr>
            <a:xfrm flipH="1">
              <a:off x="5986800" y="4058640"/>
              <a:ext cx="72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2"/>
            <p:cNvSpPr/>
            <p:nvPr/>
          </p:nvSpPr>
          <p:spPr>
            <a:xfrm flipV="1">
              <a:off x="5975280" y="4599720"/>
              <a:ext cx="7657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93"/>
            <p:cNvSpPr/>
            <p:nvPr/>
          </p:nvSpPr>
          <p:spPr>
            <a:xfrm flipH="1">
              <a:off x="5693400" y="466380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94"/>
            <p:cNvSpPr/>
            <p:nvPr/>
          </p:nvSpPr>
          <p:spPr>
            <a:xfrm flipH="1">
              <a:off x="4988520" y="4656240"/>
              <a:ext cx="1085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9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95"/>
          <p:cNvGraphicFramePr/>
          <p:nvPr/>
        </p:nvGraphicFramePr>
        <p:xfrm>
          <a:off x="4214880" y="5072040"/>
          <a:ext cx="1971720" cy="285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7" name="Object 9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14880" y="5072040"/>
                    <a:ext cx="19717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97"/>
          <p:cNvGraphicFramePr/>
          <p:nvPr/>
        </p:nvGraphicFramePr>
        <p:xfrm>
          <a:off x="500040" y="6000840"/>
          <a:ext cx="1219320" cy="428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0" name="Object 9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0040" y="6000840"/>
                    <a:ext cx="12193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0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99"/>
          <p:cNvGraphicFramePr/>
          <p:nvPr/>
        </p:nvGraphicFramePr>
        <p:xfrm>
          <a:off x="1785960" y="6039000"/>
          <a:ext cx="876240" cy="390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3" name="Object 9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85960" y="6039000"/>
                    <a:ext cx="8762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10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101"/>
          <p:cNvGraphicFramePr/>
          <p:nvPr/>
        </p:nvGraphicFramePr>
        <p:xfrm>
          <a:off x="4362480" y="6143760"/>
          <a:ext cx="1066680" cy="228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6" name="Object 1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62480" y="6143760"/>
                    <a:ext cx="1066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10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03"/>
          <p:cNvGraphicFramePr/>
          <p:nvPr/>
        </p:nvGraphicFramePr>
        <p:xfrm>
          <a:off x="5619600" y="6039000"/>
          <a:ext cx="809640" cy="390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9" name="Object 10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19600" y="6039000"/>
                    <a:ext cx="8096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Box 102"/>
          <p:cNvSpPr/>
          <p:nvPr/>
        </p:nvSpPr>
        <p:spPr>
          <a:xfrm>
            <a:off x="571680" y="5572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3"/>
          <p:cNvSpPr/>
          <p:nvPr/>
        </p:nvSpPr>
        <p:spPr>
          <a:xfrm>
            <a:off x="4214880" y="55720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 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68360" y="170028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proizvoljne tačke tela u odnosu na nepokretan (prostorni) koordinatni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573120" y="2708280"/>
          <a:ext cx="413208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2708280"/>
                    <a:ext cx="413208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11"/>
          <p:cNvSpPr/>
          <p:nvPr/>
        </p:nvSpPr>
        <p:spPr>
          <a:xfrm>
            <a:off x="2050920" y="278136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ska konačna jednačina za proizvoljnu tačku t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619280" y="3933720"/>
            <a:ext cx="75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inični vektori  Dekartovog materijalnog koordinatnog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68360" y="450864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e koordinate svake tačke krutog tela imaju nepromenljivu vre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826920" y="1557360"/>
                <a:ext cx="6435720" cy="29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Object 8"/>
          <p:cNvGraphicFramePr/>
          <p:nvPr/>
        </p:nvGraphicFramePr>
        <p:xfrm>
          <a:off x="4788000" y="2581200"/>
          <a:ext cx="4176720" cy="38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581200"/>
                    <a:ext cx="417672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0" name="Object 5"/>
          <p:cNvGraphicFramePr/>
          <p:nvPr/>
        </p:nvGraphicFramePr>
        <p:xfrm>
          <a:off x="942840" y="4149720"/>
          <a:ext cx="388152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4149720"/>
                    <a:ext cx="388152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4"/>
          <p:cNvSpPr/>
          <p:nvPr/>
        </p:nvSpPr>
        <p:spPr>
          <a:xfrm>
            <a:off x="4932360" y="4941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- Matrica ro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7"/>
          <p:cNvGraphicFramePr/>
          <p:nvPr/>
        </p:nvGraphicFramePr>
        <p:xfrm>
          <a:off x="1454040" y="1413000"/>
          <a:ext cx="5729400" cy="24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4040" y="1413000"/>
                    <a:ext cx="57294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7" name="Object 6"/>
          <p:cNvGraphicFramePr/>
          <p:nvPr/>
        </p:nvGraphicFramePr>
        <p:xfrm>
          <a:off x="909720" y="1484280"/>
          <a:ext cx="429876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484280"/>
                    <a:ext cx="42987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5"/>
          <p:cNvSpPr/>
          <p:nvPr/>
        </p:nvSpPr>
        <p:spPr>
          <a:xfrm>
            <a:off x="5148360" y="1700280"/>
            <a:ext cx="345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ljne tačke tela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ordinatnom obli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5640" y="321300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poznate funkcije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3"/>
          <p:cNvGraphicFramePr/>
          <p:nvPr/>
        </p:nvGraphicFramePr>
        <p:xfrm>
          <a:off x="919080" y="3933720"/>
          <a:ext cx="4064040" cy="171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9080" y="3933720"/>
                    <a:ext cx="406404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15"/>
          <p:cNvSpPr/>
          <p:nvPr/>
        </p:nvSpPr>
        <p:spPr>
          <a:xfrm>
            <a:off x="5076720" y="429264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da je poznat položaj materijalne tačke u svakom trenut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6" name="Object 4"/>
          <p:cNvGraphicFramePr/>
          <p:nvPr/>
        </p:nvGraphicFramePr>
        <p:xfrm>
          <a:off x="995400" y="1844640"/>
          <a:ext cx="556884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844640"/>
                    <a:ext cx="556884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5"/>
          <p:cNvSpPr/>
          <p:nvPr/>
        </p:nvSpPr>
        <p:spPr>
          <a:xfrm>
            <a:off x="179280" y="12682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 određene tačke te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7"/>
          <p:cNvGraphicFramePr/>
          <p:nvPr/>
        </p:nvGraphicFramePr>
        <p:xfrm>
          <a:off x="1187280" y="3789360"/>
          <a:ext cx="5616720" cy="20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561672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9"/>
          <p:cNvSpPr/>
          <p:nvPr/>
        </p:nvSpPr>
        <p:spPr>
          <a:xfrm>
            <a:off x="826920" y="5805360"/>
            <a:ext cx="777744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 izmež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elemenata matrice rotacij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i="1" lang="sr-Latn-C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ɑ</a:t>
            </a:r>
            <a:r>
              <a:rPr b="0" lang="sr-Latn-CS" sz="2000" spc="-1" strike="noStrike" baseline="-18000">
                <a:solidFill>
                  <a:srgbClr val="ff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toj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eza, pa su samo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datka (elemen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ezavis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JLER-ovi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(Euler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GL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39640" y="1916280"/>
                <a:ext cx="432144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je presek ravn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</m:e>
                      <m:e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- ugao precesije</m:t>
                        </m:r>
                      </m:e>
                      <m:e>
                        <m:r>
                          <m:t xml:space="preserve">υ</m:t>
                        </m:r>
                        <m:r>
                          <m:rPr>
                            <m:lit/>
                            <m:nor/>
                          </m:rPr>
                          <m:t xml:space="preserve">- ugao nutacije</m:t>
                        </m:r>
                      </m:e>
                      <m:e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- ugao sopstvene rotacije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 linija čvoro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5" name="Object 10"/>
          <p:cNvGraphicFramePr/>
          <p:nvPr/>
        </p:nvGraphicFramePr>
        <p:xfrm>
          <a:off x="4716360" y="1989000"/>
          <a:ext cx="39704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989000"/>
                    <a:ext cx="39704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925560" y="5016600"/>
                <a:ext cx="4195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826920" y="1773360"/>
                <a:ext cx="3313440" cy="24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11280" y="4437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e kretanja date su 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211640" y="1413000"/>
          <a:ext cx="4537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13000"/>
                    <a:ext cx="4537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826920" y="1700280"/>
                <a:ext cx="3672000" cy="30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- nepokretne tacke;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/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OBRTANJE TEL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11280" y="4724280"/>
            <a:ext cx="7777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na pravoj kroz tačke A i B takođe miruju, tako da je prava kroz A i B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sa obrtanj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u obrtanja karakteriše da je to prava u telu koja spaja nepokretne tačke tela. Sve ostale tačke tela opisuju kružnice u ravnima normalnim na osu sa centrima na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5219640" y="1197000"/>
          <a:ext cx="339084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197000"/>
                    <a:ext cx="3390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5T08:02:52Z</dcterms:modified>
  <cp:revision>287</cp:revision>
  <dc:subject/>
  <dc:title>ТЕХНИЧКА МЕХАНИКА 2</dc:title>
</cp:coreProperties>
</file>